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0B51-144F-4F8D-9EEA-BD8A2AF76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5C96-E384-4B39-89CC-104E8694D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54D-26BE-40EF-AA7F-33DBDDA4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8DC-7921-435A-A06E-2B73D42B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3B6-1166-4918-AFA0-47876E36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CB56-FC42-4F2B-8485-0E8C0C0E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651-4215-4C0A-92DA-7C458FA3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1656-67E2-4B72-A38B-CDA197CD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DA0F-9D1F-4187-BD4F-7D91C98B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ED7-828E-4716-8435-4102A3E7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90D-6A03-4303-8634-B766A452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66A-6896-4BE1-9F9B-E7FA09BF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5375-2C56-4808-8A4B-50180E6D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6457-1A76-4E2E-94BF-D1FA22A1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081F-C764-474C-A022-EE11F46AA3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llied Testing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6292-CA3D-4218-A184-573C67752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oost.org/libs/mpl/index.html" TargetMode="External"/><Relationship Id="rId2" Type="http://schemas.openxmlformats.org/officeDocument/2006/relationships/hyperlink" Target="http://en.wikipedia.org/wiki/Standard_Template_Library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0" y="0"/>
            <a:ext cx="9296280" cy="6858000"/>
            <a:chOff x="0" y="0"/>
            <a:chExt cx="9296280" cy="6858000"/>
          </a:xfrm>
        </p:grpSpPr>
        <p:pic>
          <p:nvPicPr>
            <p:cNvPr id="49" name="Picture 2" descr=""/>
            <p:cNvPicPr/>
            <p:nvPr/>
          </p:nvPicPr>
          <p:blipFill>
            <a:blip r:embed="rId1"/>
            <a:stretch/>
          </p:blipFill>
          <p:spPr>
            <a:xfrm>
              <a:off x="60480" y="0"/>
              <a:ext cx="9235800" cy="678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Rectangle 5"/>
            <p:cNvGrpSpPr/>
            <p:nvPr/>
          </p:nvGrpSpPr>
          <p:grpSpPr>
            <a:xfrm>
              <a:off x="0" y="4306680"/>
              <a:ext cx="5717160" cy="2551320"/>
              <a:chOff x="0" y="4306680"/>
              <a:chExt cx="5717160" cy="2551320"/>
            </a:xfrm>
          </p:grpSpPr>
          <p:pic>
            <p:nvPicPr>
              <p:cNvPr id="5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4306680"/>
                <a:ext cx="5717160" cy="255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60480" y="4343040"/>
                <a:ext cx="5602320" cy="24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3" name="Picture 5" descr=""/>
            <p:cNvPicPr/>
            <p:nvPr/>
          </p:nvPicPr>
          <p:blipFill>
            <a:blip r:embed="rId3"/>
            <a:stretch/>
          </p:blipFill>
          <p:spPr>
            <a:xfrm>
              <a:off x="7686360" y="4336560"/>
              <a:ext cx="1591920" cy="244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" name="Rectangle 11"/>
            <p:cNvGrpSpPr/>
            <p:nvPr/>
          </p:nvGrpSpPr>
          <p:grpSpPr>
            <a:xfrm>
              <a:off x="5759640" y="4324680"/>
              <a:ext cx="1804680" cy="2472840"/>
              <a:chOff x="5759640" y="4324680"/>
              <a:chExt cx="1804680" cy="2472840"/>
            </a:xfrm>
          </p:grpSpPr>
          <p:pic>
            <p:nvPicPr>
              <p:cNvPr id="55" name="Rectangl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5759640" y="4324680"/>
                <a:ext cx="1804680" cy="247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5779080" y="4342320"/>
                <a:ext cx="1776240" cy="244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7" name="Picture 9" descr=""/>
            <p:cNvPicPr/>
            <p:nvPr/>
          </p:nvPicPr>
          <p:blipFill>
            <a:blip r:embed="rId5"/>
            <a:stretch/>
          </p:blipFill>
          <p:spPr>
            <a:xfrm>
              <a:off x="5803920" y="4377240"/>
              <a:ext cx="1697400" cy="75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Subtitle 2" descr=""/>
          <p:cNvPicPr/>
          <p:nvPr/>
        </p:nvPicPr>
        <p:blipFill>
          <a:blip r:embed="rId6"/>
          <a:stretch/>
        </p:blipFill>
        <p:spPr>
          <a:xfrm>
            <a:off x="133200" y="5121360"/>
            <a:ext cx="534672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485200" cy="115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use C++ Object Oriented Framework instead of standard C librarie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use SmartDB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I query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I update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I insert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tradeoff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SmartDB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llied Testing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Why use C++ Object Oriented Framework instead of standard C libraries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at C++ project brings you i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ffective use of templates to reduce the inconvenience of dealing with type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versions of standard C++ strings to keep you from having to worry about buffer allocation and overflow attack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bject-oriented exceptions to take the tedious error-prone troubleshooting around error handling out of your hand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rong management of constructors and destructors to bring resource management under control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l object-orientation possibilities to give you some extra reliability features that would be hard to get with plain C code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llied Testing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Why use SmartDB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Full support of all built-in Postgres data types(ARRAY, LOB, VARRAYNG etc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architecture is modeled after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P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which in turn is modeled after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T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Most of the things are doing at compile time which significantly speed up a runtim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ll SQ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C++ mapping of DB exception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vanced logging mechanism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rehensive API (ability to JOIN, SORT record sets on a client machine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defined getters and setters on containers with user dat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ery command or query issues a result object, which is really a smart pointer so it can be copied around without incurring much cost in terms of performanc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rehended user guide and extensive unit-test coverag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llied Testing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How do I query dat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_STRUCT(new_builti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Gbool,  colboo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Gint2,  colint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Gfloat8,  colfloat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Gtimestamp,  coltimestam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Ginet,  coline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Gmacaddr,  colmacaddr)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new_builtin_tabl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utb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Calibri"/>
              </a:rPr>
              <a:t>3) dbExe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-&gt;</a:t>
            </a:r>
            <a:r>
              <a:rPr b="0" lang="en-US" sz="2700" spc="-1" strike="noStrike">
                <a:solidFill>
                  <a:srgbClr val="e46c0a"/>
                </a:solidFill>
                <a:latin typeface="Calibri"/>
              </a:rPr>
              <a:t>execSQLGe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outb, </a:t>
            </a:r>
            <a:r>
              <a:rPr b="0" lang="en-US" sz="2700" spc="-1" strike="noStrike">
                <a:solidFill>
                  <a:srgbClr val="984807"/>
                </a:solidFill>
                <a:latin typeface="Calibri"/>
              </a:rPr>
              <a:t>"SELECT * FROM </a:t>
            </a:r>
            <a:r>
              <a:rPr b="0" lang="en-US" sz="27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984807"/>
                </a:solidFill>
                <a:latin typeface="Calibri"/>
              </a:rPr>
              <a:t>test.builtintypes"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llied Testing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How do I update dat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dbExe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&gt;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addPara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G_INT4,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dbExe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&gt;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execSQL</a:t>
            </a: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(“DELETE FROM test.builtintypes WHERE ID=$1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2)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new_builtin_tab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utb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push_ba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shared_ptr&lt;</a:t>
            </a:r>
            <a:r>
              <a:rPr b="0" lang="en-US" sz="1900" spc="-1" strike="noStrike">
                <a:solidFill>
                  <a:srgbClr val="0070c0"/>
                </a:solidFill>
                <a:latin typeface="Calibri"/>
              </a:rPr>
              <a:t>new_builtin_table::row_ty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(new </a:t>
            </a:r>
            <a:r>
              <a:rPr b="0" lang="en-US" sz="1900" spc="-1" strike="noStrike">
                <a:solidFill>
                  <a:srgbClr val="0070c0"/>
                </a:solidFill>
                <a:latin typeface="Calibri"/>
              </a:rPr>
              <a:t>new_builtin_table::row_ty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); </a:t>
            </a:r>
            <a:r>
              <a:rPr b="0" lang="en-US" sz="2000" spc="-1" strike="noStrike">
                <a:solidFill>
                  <a:srgbClr val="92d050"/>
                </a:solidFill>
                <a:latin typeface="Calibri"/>
              </a:rPr>
              <a:t>//reserve one empty r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).</a:t>
            </a:r>
            <a:r>
              <a:rPr b="0" lang="en-US" sz="1900" spc="-1" strike="noStrike">
                <a:solidFill>
                  <a:srgbClr val="e46c0a"/>
                </a:solidFill>
                <a:latin typeface="Calibri"/>
              </a:rPr>
              <a:t>set_colboo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ru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).</a:t>
            </a:r>
            <a:r>
              <a:rPr b="0" lang="en-US" sz="1900" spc="-1" strike="noStrike">
                <a:solidFill>
                  <a:srgbClr val="e46c0a"/>
                </a:solidFill>
                <a:latin typeface="Calibri"/>
              </a:rPr>
              <a:t>set_colint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1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).</a:t>
            </a:r>
            <a:r>
              <a:rPr b="0" lang="en-US" sz="1900" spc="-1" strike="noStrike">
                <a:solidFill>
                  <a:srgbClr val="e46c0a"/>
                </a:solidFill>
                <a:latin typeface="Calibri"/>
              </a:rPr>
              <a:t>set_float8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10.03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).</a:t>
            </a:r>
            <a:r>
              <a:rPr b="0" lang="en-US" sz="1900" spc="-1" strike="noStrike">
                <a:solidFill>
                  <a:srgbClr val="e46c0a"/>
                </a:solidFill>
                <a:latin typeface="Calibri"/>
              </a:rPr>
              <a:t>set_timestam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“2009-09-03”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).</a:t>
            </a:r>
            <a:r>
              <a:rPr b="0" lang="en-US" sz="1900" spc="-1" strike="noStrike">
                <a:solidFill>
                  <a:srgbClr val="e46c0a"/>
                </a:solidFill>
                <a:latin typeface="Calibri"/>
              </a:rPr>
              <a:t>set_macadd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{1,2,3,225,226,227}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3) 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dbExe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&gt;</a:t>
            </a:r>
            <a:r>
              <a:rPr b="0" lang="en-US" sz="2000" spc="-1" strike="noStrike">
                <a:solidFill>
                  <a:srgbClr val="e46c0a"/>
                </a:solidFill>
                <a:latin typeface="Calibri"/>
              </a:rPr>
              <a:t>execSQLSe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900" spc="-1" strike="noStrike">
                <a:solidFill>
                  <a:srgbClr val="7f7f7f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900" spc="-1" strike="noStrike">
                <a:solidFill>
                  <a:srgbClr val="984807"/>
                </a:solidFill>
                <a:latin typeface="Calibri"/>
              </a:rPr>
              <a:t>"INSERT INTO test.builtintypes VALUES($1,  $2,  $3,  </a:t>
            </a:r>
            <a:r>
              <a:rPr b="0" lang="en-US" sz="19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984807"/>
                </a:solidFill>
                <a:latin typeface="Calibri"/>
              </a:rPr>
              <a:t>$4,  $5,  $6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llied Testing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How do I insert dat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FINE_STRUCT(new_builtin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PGbool,  colbool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PGint2,  colint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PGfloat8,  colfloat8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PGtimestamp,  coltimestamp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PGinet,  coline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PGmacaddr,  colmacaddr)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2)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new_builtin_tab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utb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e46c0a"/>
                </a:solidFill>
                <a:latin typeface="Calibri"/>
              </a:rPr>
              <a:t>push_back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shared_ptr&lt;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new_builtin_table::row_typ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new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new_builtin_table::row_typ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); </a:t>
            </a:r>
            <a:r>
              <a:rPr b="0" lang="en-US" sz="2200" spc="-1" strike="noStrike">
                <a:solidFill>
                  <a:srgbClr val="92d050"/>
                </a:solidFill>
                <a:latin typeface="Calibri"/>
              </a:rPr>
              <a:t>//reserve one empty ro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3) </a:t>
            </a: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dbExe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&gt;</a:t>
            </a:r>
            <a:r>
              <a:rPr b="0" lang="en-US" sz="2200" spc="-1" strike="noStrike">
                <a:solidFill>
                  <a:srgbClr val="e46c0a"/>
                </a:solidFill>
                <a:latin typeface="Calibri"/>
              </a:rPr>
              <a:t>execSQLSe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7f7f7f"/>
                </a:solidFill>
                <a:latin typeface="Calibri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984807"/>
                </a:solidFill>
                <a:latin typeface="Calibri"/>
              </a:rPr>
              <a:t>"INSERT INTO test.builtintypes VALUES($1,  </a:t>
            </a:r>
            <a:r>
              <a:rPr b="0" lang="en-US" sz="2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984807"/>
                </a:solidFill>
                <a:latin typeface="Calibri"/>
              </a:rPr>
              <a:t>$2,  $3,  $4,  $5,  $6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llied Testing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What are the tradeoff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600200"/>
          <a:ext cx="8458200" cy="3301920"/>
        </p:xfrm>
        <a:graphic>
          <a:graphicData uri="http://schemas.openxmlformats.org/drawingml/2006/table">
            <a:tbl>
              <a:tblPr/>
              <a:tblGrid>
                <a:gridCol w="1295280"/>
                <a:gridCol w="914400"/>
                <a:gridCol w="990720"/>
                <a:gridCol w="1219320"/>
                <a:gridCol w="1371600"/>
                <a:gridCol w="2666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br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gging built-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RAY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ceptions ma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I for data manipulate on the client mach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bP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ows/ Un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bPQ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ows/ Un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bPQ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ows/ Un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rt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 (JOIN and SO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llied Testing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Using SmartDB Frame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llied Testing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5832360" y="4237200"/>
            <a:ext cx="3114720" cy="2133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1095480" cy="1295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1219320" y="1600200"/>
            <a:ext cx="4495680" cy="101916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10"/>
          <p:cNvGrpSpPr/>
          <p:nvPr/>
        </p:nvGrpSpPr>
        <p:grpSpPr>
          <a:xfrm>
            <a:off x="4546440" y="3078000"/>
            <a:ext cx="1219320" cy="762120"/>
            <a:chOff x="4546440" y="3078000"/>
            <a:chExt cx="1219320" cy="762120"/>
          </a:xfrm>
        </p:grpSpPr>
        <p:sp>
          <p:nvSpPr>
            <p:cNvPr id="86" name="Oval 8"/>
            <p:cNvSpPr/>
            <p:nvPr/>
          </p:nvSpPr>
          <p:spPr>
            <a:xfrm>
              <a:off x="4547880" y="3078000"/>
              <a:ext cx="1143360" cy="76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9"/>
            <p:cNvSpPr/>
            <p:nvPr/>
          </p:nvSpPr>
          <p:spPr>
            <a:xfrm>
              <a:off x="4546440" y="32594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etch Da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88" name="Shape 12"/>
          <p:cNvCxnSpPr/>
          <p:nvPr/>
        </p:nvCxnSpPr>
        <p:spPr>
          <a:xfrm flipH="1" rot="16200000">
            <a:off x="3602520" y="2491920"/>
            <a:ext cx="826200" cy="1080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</p:cxnSp>
      <p:cxnSp>
        <p:nvCxnSpPr>
          <p:cNvPr id="89" name="Shape 13"/>
          <p:cNvCxnSpPr/>
          <p:nvPr/>
        </p:nvCxnSpPr>
        <p:spPr>
          <a:xfrm>
            <a:off x="5694120" y="3444840"/>
            <a:ext cx="1695960" cy="8848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</p:cxnSp>
      <p:sp>
        <p:nvSpPr>
          <p:cNvPr id="90" name="TextBox 17"/>
          <p:cNvSpPr/>
          <p:nvPr/>
        </p:nvSpPr>
        <p:spPr>
          <a:xfrm>
            <a:off x="6111720" y="3867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tgreSQ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Group 24"/>
          <p:cNvGrpSpPr/>
          <p:nvPr/>
        </p:nvGrpSpPr>
        <p:grpSpPr>
          <a:xfrm>
            <a:off x="792000" y="4554360"/>
            <a:ext cx="2148120" cy="1828800"/>
            <a:chOff x="792000" y="4554360"/>
            <a:chExt cx="2148120" cy="1828800"/>
          </a:xfrm>
        </p:grpSpPr>
        <p:sp>
          <p:nvSpPr>
            <p:cNvPr id="92" name="TextBox 20"/>
            <p:cNvSpPr/>
            <p:nvPr/>
          </p:nvSpPr>
          <p:spPr>
            <a:xfrm>
              <a:off x="792000" y="4871160"/>
              <a:ext cx="19821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</a:rPr>
                <a:t>DEFINE_STRUC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first_name PGVarcha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ast_name PGVarcha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mail          PGVarcha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ept_id      PGInt4 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lowchart: Multidocument 23"/>
            <p:cNvSpPr/>
            <p:nvPr/>
          </p:nvSpPr>
          <p:spPr>
            <a:xfrm>
              <a:off x="805680" y="4554360"/>
              <a:ext cx="2134440" cy="1828800"/>
            </a:xfrm>
            <a:prstGeom prst="flowChartMultidocumen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94" name="Straight Arrow Connector 33"/>
          <p:cNvCxnSpPr/>
          <p:nvPr/>
        </p:nvCxnSpPr>
        <p:spPr>
          <a:xfrm flipH="1" flipV="1">
            <a:off x="1855440" y="2447640"/>
            <a:ext cx="10080" cy="2106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</p:cxnSp>
      <p:cxnSp>
        <p:nvCxnSpPr>
          <p:cNvPr id="95" name="Shape 35"/>
          <p:cNvCxnSpPr>
            <a:endCxn id="86" idx="4"/>
          </p:cNvCxnSpPr>
          <p:nvPr/>
        </p:nvCxnSpPr>
        <p:spPr>
          <a:xfrm rot="10800000">
            <a:off x="5118840" y="3839400"/>
            <a:ext cx="713520" cy="146448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miter/>
            <a:tailEnd len="med" type="arrow" w="lg"/>
          </a:ln>
        </p:spPr>
      </p:cxnSp>
      <p:cxnSp>
        <p:nvCxnSpPr>
          <p:cNvPr id="96" name="Shape 39"/>
          <p:cNvCxnSpPr>
            <a:stCxn id="86" idx="3"/>
            <a:endCxn id="93" idx="3"/>
          </p:cNvCxnSpPr>
          <p:nvPr/>
        </p:nvCxnSpPr>
        <p:spPr>
          <a:xfrm rot="5400000">
            <a:off x="2957040" y="3711240"/>
            <a:ext cx="1740600" cy="17755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miter/>
            <a:tailEnd len="med" type="arrow" w="lg"/>
          </a:ln>
        </p:spPr>
      </p:cxnSp>
      <p:cxnSp>
        <p:nvCxnSpPr>
          <p:cNvPr id="97" name="Shape 41"/>
          <p:cNvCxnSpPr>
            <a:stCxn id="93" idx="1"/>
          </p:cNvCxnSpPr>
          <p:nvPr/>
        </p:nvCxnSpPr>
        <p:spPr>
          <a:xfrm rot="10800000">
            <a:off x="699480" y="3047400"/>
            <a:ext cx="106920" cy="242136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miter/>
            <a:tailEnd len="med" type="arrow" w="lg"/>
          </a:ln>
        </p:spPr>
      </p:cxnSp>
      <p:grpSp>
        <p:nvGrpSpPr>
          <p:cNvPr id="98" name="Group 42"/>
          <p:cNvGrpSpPr/>
          <p:nvPr/>
        </p:nvGrpSpPr>
        <p:grpSpPr>
          <a:xfrm>
            <a:off x="6116760" y="1668600"/>
            <a:ext cx="1218960" cy="761760"/>
            <a:chOff x="6116760" y="1668600"/>
            <a:chExt cx="1218960" cy="761760"/>
          </a:xfrm>
        </p:grpSpPr>
        <p:sp>
          <p:nvSpPr>
            <p:cNvPr id="99" name="Oval 43"/>
            <p:cNvSpPr/>
            <p:nvPr/>
          </p:nvSpPr>
          <p:spPr>
            <a:xfrm>
              <a:off x="6118200" y="1668600"/>
              <a:ext cx="1143000" cy="761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44"/>
            <p:cNvSpPr/>
            <p:nvPr/>
          </p:nvSpPr>
          <p:spPr>
            <a:xfrm>
              <a:off x="6116760" y="185004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o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01" name="Straight Arrow Connector 46"/>
          <p:cNvCxnSpPr>
            <a:stCxn id="86" idx="7"/>
            <a:endCxn id="99" idx="3"/>
          </p:cNvCxnSpPr>
          <p:nvPr/>
        </p:nvCxnSpPr>
        <p:spPr>
          <a:xfrm flipV="1">
            <a:off x="5521680" y="2319120"/>
            <a:ext cx="762840" cy="870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3:50:30Z</dcterms:created>
  <dc:creator>md_nshevchenco</dc:creator>
  <dc:description/>
  <dc:language>en-US</dc:language>
  <cp:lastModifiedBy>md_nshevchenco</cp:lastModifiedBy>
  <dcterms:modified xsi:type="dcterms:W3CDTF">2009-06-03T11:24:05Z</dcterms:modified>
  <cp:revision>69</cp:revision>
  <dc:subject/>
  <dc:title>Slide 1</dc:title>
</cp:coreProperties>
</file>